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F36-C035-4CB0-8CBF-AB46FEBC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D512-CF28-44A4-8573-95D9B016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3B5-2434-4B83-886F-D1285B8F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6AD-F664-461C-8F8F-A4850633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3546-B2E9-47EA-8F7A-91270BC4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7DA0-D2A2-4F7D-8D5E-F0D44E3A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E015-131B-4F68-A78A-D22162A4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6BB1-C26A-4846-AB45-BD0B76E4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831C-E3E7-4A07-9507-70010EA8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47F0-4BC6-47B2-B313-DF4A7C65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3735-CCD7-4167-A9C3-B1B5124C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974-ACF0-45F7-BCCC-A3871C4D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68E3-920E-4AA9-8360-8C0C55B7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1E2B-D0BD-4435-B72D-C6F314CA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A6D6-FCCF-4BB5-9A18-222DEEEF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1858-9FEF-40CD-880A-65067090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F0F8-CCBE-4E08-9E54-5C615356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66005-CE5A-4591-9385-51633117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C26C1-6404-4BEB-8F3B-0BB4B033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888D0-35C7-4E5F-8F14-BB917D48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B2E40-5993-4D50-BB50-DD62FD70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94EA7-C5BF-41E9-AF4C-E1840EBD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CF3-4585-4D19-ABAB-756FDE56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874A4-9BA8-45C4-8F0E-469C43C7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19367-5C14-430E-BDF9-E0EDF2BC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B5957-B865-44A2-BFF3-4D1B2261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334FE-1CB5-4442-B470-1B68082C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7AB34-C9DA-4181-8A53-1A65A7C3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AC55D-5C3D-490F-9407-5C3418C4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EB969-68A8-4E8C-A616-99EEB271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A015B-A31C-473A-B0D7-9A73F7F9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506F2-5CCD-4551-85AC-1095CB6F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9A5DF-7B25-4DB7-860A-E3ACF542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B50-BB19-46B4-85CA-FDCEB603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0DE33-38E6-4388-965F-8F668D34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4A275-3D95-4965-BA19-AC8CC4A8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7F52C-8FB3-4684-9E22-7F1FFC28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13DF1-14B8-412A-B24E-755202B8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521E2-9D8D-44D9-8B27-94B2A1B1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9CCB3-9840-4F31-8391-7B9CBBB2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99BAA-7EFB-43AC-A39A-DB4BBF6C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1B9E4-F9E9-4A42-84B7-455E29A1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20034-389E-4737-B0B2-BB4639F0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67A20-DF15-4034-819E-25F67E16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729-89E9-4EE5-87AC-CAC7BC28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E56AB-51F5-4232-975F-8B32B61E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0CAF7-BE6A-4A92-BAB6-A2C4A8D3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D93A2-F841-445D-935A-A3D5827F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84FAC-AE56-485A-B7CE-638DFB3B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4CF8F-3502-4ABE-9A6B-1F99DE22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5EE2B-DE68-45CC-B3BD-22DFD058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3B0B3-B86E-4106-8A5F-669895E3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7242E-854C-4F9A-BA15-DF6C3FE2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2EEB5-EF11-4500-871A-C5E892ED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E0BA4-724C-4B30-90C7-3A2F40B8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C09-8DBE-4572-AD9A-1AF69579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98481-D427-47BE-BC9A-05E08969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13860-EFEC-444C-A861-5EE92170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AA60D-A073-48BE-85C4-39383BFE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C1E09-9700-4AD3-81AA-BD5FDB0C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14160-AF06-4EB4-B7FE-66985D1D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D7573-1A41-4B3D-A11E-8F288EB3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5CEC7-3F97-44EB-8236-3B1AFA21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E24FC-09E5-4495-A600-BB0DF6C3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1ECB1-D9D7-45FC-B227-8EF357A4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FF814-D618-4FD7-9D5C-D7036079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C0B-0CAC-4481-9104-C4505A4B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C39F3-15DE-4B3C-B3DA-4ED89994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3F40E-4035-4B4F-BC29-426A7799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25CFA-ECC2-4663-856E-7B08F22D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1DBE8-A237-48E6-9296-2553ACBD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6664D-2840-4298-94D6-AEA617C3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58588-D424-43BA-AE46-0C2789A2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F5AA4-8580-4AC2-BC14-972595CD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17B43-A158-41EB-A6C4-9647072C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B9870-13C1-430B-923C-7E550491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273AF-32C9-4299-8C7A-3DFEEC65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FA6-E517-4F63-8A87-EC4DD42F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12DC5-3C73-4949-9A8A-58693091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DE8DB-8BED-49D5-B49B-A0998E88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AD261-E957-43E8-8060-928C9749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C2289-64FB-4CE7-A9B9-73BA2C45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6A0DC-56BF-4A48-874E-47F9FE6B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DBF-CE16-469F-86CC-D672B112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4AAE-6901-409C-8619-64C7ECB6CB3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416B-598F-4AC3-A208-94B02EE0D42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8A4F-BA6E-43AB-A2E4-829C417091F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4936-6A62-4A91-81DD-68A14C99C62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D847-9A6A-46FE-BC3B-C971E051FF8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41B7-E200-41B9-80D3-9ACCA2FAD84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342E-B6C7-40BA-A813-DAEF4B19D4F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«Коневская основная общеобразовательная школа»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Преодоление разрыва в образовательных возможностях и достижениях обучающихся, обусловленных социально-экономическими характеристиками их семей, сложностью контингента и их переход в статус резильентных за счёт повышения педагогического и ресурсного потенциала школ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95959"/>
                </a:solidFill>
                <a:latin typeface="Corbel"/>
              </a:rPr>
              <a:t>2020 -2021 уч. год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C:\Users\Инна\AppData\Local\Microsoft\Windows\Temporary Internet Files\Content.IE5\5WAUPLBX\81266624ef02[1].png"/>
          <p:cNvPicPr/>
          <p:nvPr/>
        </p:nvPicPr>
        <p:blipFill>
          <a:blip r:embed="rId1"/>
          <a:stretch/>
        </p:blipFill>
        <p:spPr>
          <a:xfrm>
            <a:off x="1830240" y="3860640"/>
            <a:ext cx="24544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11617"/>
                </a:solidFill>
                <a:latin typeface="Corbel"/>
              </a:rPr>
              <a:t>Описание ситуации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МБОУ «Коневская ООШ» расположена в Балахнинском районе Нижегородской области в деревне Конево. В школе 60 обучающихся 1-9 классов, 12 учителей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Одной из ключевых проблем  школы являлась недостаточная предметная и методическая компетентность педагогических работников. 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Не все педагоги в полной мере усвоили приемы работы с мультимедиа и другой современной аппаратурой, проведение онлайн-уроков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268280"/>
            <a:ext cx="74995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Основная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цел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Разработка и реализация комплекса мер по снижению уровня значимости рисков снижения результатов обучения для перехода школы в статус резильентны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e190d"/>
                </a:solidFill>
                <a:latin typeface="Times New Roman"/>
                <a:ea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7489800" cy="129564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Основная 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задача: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677600" y="907560"/>
            <a:ext cx="7070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зработка и реализация программы методической работы с педагогами, имеющими предметные и методические дефициты компетентносте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 проведение консультирования педагогов с низкими предметными и методическими компетентностя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организация прохождения курсов повышения квалификации и в соответствии с выявленными профессиональными дефицитам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разработка и реализация индивидуальных планов профессионального развития педагогов по ликвидации профессиональных дефицитов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готовка и организация мероприятий по обмену опытом между педагогами школ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Описание результата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Инструментарий диагностик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роведение мониторинга профессиональных компетентностей педагогов. Разработка инструментария и проведение диагностики профессиональных компетентностей педагогов: диагностика проведена на сайте Я Учитель  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 («Профиль компетенций»)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с указанием результатов компетенций учителей, через определенный период  времени проведена повторная диагностика (результаты указаны в диаграмме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Диаграмма 4" descr=""/>
          <p:cNvPicPr/>
          <p:nvPr/>
        </p:nvPicPr>
        <p:blipFill>
          <a:blip r:embed="rId1"/>
          <a:stretch/>
        </p:blipFill>
        <p:spPr>
          <a:xfrm>
            <a:off x="2289240" y="3017880"/>
            <a:ext cx="55735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3972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     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Разработана программа методической работы с педагогами, имеющими предметные и методические дефициты компетентностей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Содержательный план проведения консультаций педагогов с низкими предметными и методическими компетентностями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График прохождения курсов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Индивидуальны планы профессионального развития педагогов по ликвидации профессиональных дефицитов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Банк методических материалов педагогов, мультимедийные презентации  с описанием опыта педагогов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Информационная справка с выводами о динамике уровня развития предметных и методических компетентностей педагог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5" descr="C:\Users\A4F7~1\AppData\Local\Temp\Rar$DIa2644.22603\1624528579928.jpg"/>
          <p:cNvPicPr/>
          <p:nvPr/>
        </p:nvPicPr>
        <p:blipFill>
          <a:blip r:embed="rId1"/>
          <a:stretch/>
        </p:blipFill>
        <p:spPr>
          <a:xfrm>
            <a:off x="1692360" y="3825720"/>
            <a:ext cx="1660320" cy="2221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C:\Users\A4F7~1\AppData\Local\Temp\Rar$DIa2644.30585\1624528581606.jpg"/>
          <p:cNvPicPr/>
          <p:nvPr/>
        </p:nvPicPr>
        <p:blipFill>
          <a:blip r:embed="rId2"/>
          <a:stretch/>
        </p:blipFill>
        <p:spPr>
          <a:xfrm>
            <a:off x="3848040" y="3828960"/>
            <a:ext cx="1660680" cy="2217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C:\Users\A4F7~1\AppData\Local\Temp\Rar$DIa2644.37208\1624528582314.jpg"/>
          <p:cNvPicPr/>
          <p:nvPr/>
        </p:nvPicPr>
        <p:blipFill>
          <a:blip r:embed="rId3"/>
          <a:stretch/>
        </p:blipFill>
        <p:spPr>
          <a:xfrm>
            <a:off x="6084720" y="3825720"/>
            <a:ext cx="1656000" cy="2214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C:\Users\Андрей\Downloads\1624529682694.jpg"/>
          <p:cNvPicPr/>
          <p:nvPr/>
        </p:nvPicPr>
        <p:blipFill>
          <a:blip r:embed="rId4"/>
          <a:stretch/>
        </p:blipFill>
        <p:spPr>
          <a:xfrm>
            <a:off x="-9791640" y="-15773400"/>
            <a:ext cx="25192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Заключение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836280"/>
            <a:ext cx="7499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оложительная динамика уровня развития предметных и методических компетентностей педагог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овышение качества знаний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обучающихся основной школы в 2020-2021 учебном год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Улучшились результаты ОГЭ. Все выпускники школы закончили обучение на «4» и «5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Диаграмма 3" descr=""/>
          <p:cNvPicPr/>
          <p:nvPr/>
        </p:nvPicPr>
        <p:blipFill>
          <a:blip r:embed="rId1"/>
          <a:stretch/>
        </p:blipFill>
        <p:spPr>
          <a:xfrm>
            <a:off x="2505240" y="2873520"/>
            <a:ext cx="398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7:36:20Z</dcterms:created>
  <dc:creator>1</dc:creator>
  <dc:description/>
  <dc:language>en-US</dc:language>
  <cp:lastModifiedBy>Андрей</cp:lastModifiedBy>
  <dcterms:modified xsi:type="dcterms:W3CDTF">2021-06-24T10:40:09Z</dcterms:modified>
  <cp:revision>162</cp:revision>
  <dc:subject/>
  <dc:title>Министерство образования Российской Федерации Среднего профессионального образования Нижегородский машиностроительный техникум</dc:title>
</cp:coreProperties>
</file>